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E297-0382-4F3D-A8C6-822D1F143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40A9-784D-4EF2-B153-638205FB9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CC95-FF8D-4D66-9073-639C09798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7607-F120-40D6-BA8B-B7F4384BF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B32C-B378-43CF-82BF-224C78261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E8F5-EBFE-4B5A-84F9-FC5EB14B9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0BA4-9223-4E1C-9A7D-845435ED1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A1AA-34E7-4197-9D72-7453666D4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8F3C-1DF0-4EDF-872C-BD52FF151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6667-7BF5-46F1-BADB-799DF7E65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00CE-50BC-4684-8FD3-F436613CC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265C-1F04-4A09-A316-EE3F9D34C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21057-3237-4013-852A-F4543DE73D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CICLO    DE    VIDAS    DE   LOS   OCÉAN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60948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OS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OCÉANO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SON  LOS  RASGOS  MAS  IMPORTANTES  DE  LA  SUPERFICIE  DE   LA  TIERRA,  Y  SU  EXISTENCIA  Y   EVOLUCIÓN    CONTROLA  MUCHO   DE   LOS  PROCESOS  GEOLÓGICOS   MAS   NOTABLES   DEL  PLANET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UNOS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OCÉANO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HAN   APARECIDO   SOBRE    LA   FAZ   DE   LA  TIERRA     MAS   RECIENTEMENTE   QUE  OTROS,  Y   OTROS  EXISTEN   DESDE   TIEMPOS  MUY  ANTIGUOS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TAMBIÉN,   ALGUNAS  PARTES  DE   UN  MISMO   OCÉANO  SON  MAS  VIEJAS   O   MAS  JÓVENES  QUE  OT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AS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UENCAS  OCEÁNICAS  SE  INICIAN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(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O  NACEN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),   A   PARTIR   DE   UN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RIFTING  CONTINENTAL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Y  TERMINAN   (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O  MUEREN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),     BAJO  EL  EFECTO  DE  LA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SUBDUCCIÓN   LITOSFÉR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.    SU  DESARROLLO   ES  PROGRESIVO  Y  SU  EVOLUCIÓN   ES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ÍCLIC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AS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UENCAS  OCEÁNICAS  CRECEN,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DESDE  SU INICIO,   DE   MUY  PEQUEÑAS  HASTA  UN  MÁXIMO,  Y  DESPUÉS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SE  CONTRAEN  Y  RECOGEN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(VUELVEN  A   SER   PEQUEÑOS),   HASTA DESAPARECER  EN  ALGUNOS CAS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L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CICLO  DE VIDA   DE  LOS  OCÉANO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FUE     PROPUESTO   POR 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TUZO  WILSON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 EN  1968,   QUIÉN  DEFINIÓ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SEIS  ETAPAS  DE   DESARROLL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CADA  UNA  DE   ELLAS   REPRESENTADA   HOY   DÍA   SOBRE  LA  FAZ    DE    LA TIERRA,   POR   OCÉANOS   REALES,   O   POR     ESTRUCTURAS   GLOBALES   Y  PECULIARES  EXISTENTES  EN  DETERMINADOS  LUGARES DEL PLANE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CICLO    DE   VIDA    DE    LOS    OCÉANOS     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(continuación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51920" y="761760"/>
            <a:ext cx="8991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ETAPA   1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ESTADO  EMBRIONARI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.   Ej:  RIFT -  VALLEYS  ESTE   AFRICANO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Movimiento  dominante:  levantamien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ETAPA   2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ESTADO  JÓVEN.    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j:  MAR  ROJO;  GOLFO  DE  ADÉN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Movimiento  dominante:  expans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ETAPA   3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      ESTADO   MADURO.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j  OCÉANO  ATLÁNTICO.          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Movimiento  dominante:  expasí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ETAPA   4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     ESTADO   DECLINANTE.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j:  OCÉANO  PACÍFICO.      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Movimiento dominante:  contra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 baseline="-2000">
                <a:solidFill>
                  <a:srgbClr val="ffffff"/>
                </a:solidFill>
                <a:uFillTx/>
                <a:latin typeface="Times New Roman"/>
              </a:rPr>
              <a:t>ETAPA   5</a:t>
            </a:r>
            <a:r>
              <a:rPr b="0" i="1" lang="es-ES_tradnl" sz="2800" spc="-1" strike="noStrike" baseline="-2000">
                <a:solidFill>
                  <a:srgbClr val="ffffff"/>
                </a:solidFill>
                <a:latin typeface="Times New Roman"/>
              </a:rPr>
              <a:t>      ESTADO   TERMINAL.            </a:t>
            </a:r>
            <a:r>
              <a:rPr b="0" lang="es-ES_tradnl" sz="2800" spc="-1" strike="noStrike" baseline="-2000">
                <a:solidFill>
                  <a:srgbClr val="ffffff"/>
                </a:solidFill>
                <a:latin typeface="Times New Roman"/>
              </a:rPr>
              <a:t>Ej.  MAR  MEDITERRÁNEO.                              Movimiento  dominante:  contracción  y  levanta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 baseline="-2000">
                <a:solidFill>
                  <a:srgbClr val="ffffff"/>
                </a:solidFill>
                <a:uFillTx/>
                <a:latin typeface="Times New Roman"/>
              </a:rPr>
              <a:t>ETAPA   6</a:t>
            </a:r>
            <a:r>
              <a:rPr b="1" lang="es-ES_tradnl" sz="2800" spc="-1" strike="noStrike" baseline="-2000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i="1" lang="es-ES_tradnl" sz="2800" spc="-1" strike="noStrike" baseline="-2000">
                <a:solidFill>
                  <a:srgbClr val="ffffff"/>
                </a:solidFill>
                <a:latin typeface="Times New Roman"/>
              </a:rPr>
              <a:t>ESTADO    RELICTO. (CICATRIZADO).   </a:t>
            </a:r>
            <a:r>
              <a:rPr b="0" lang="es-ES_tradnl" sz="2800" spc="-1" strike="noStrike" baseline="-2000">
                <a:solidFill>
                  <a:srgbClr val="ffffff"/>
                </a:solidFill>
                <a:latin typeface="Times New Roman"/>
              </a:rPr>
              <a:t>Ej:   SUTURA  ÍNDICA  DE   LOS   HIMALAYAS.  Movimiento  dominante:  </a:t>
            </a:r>
            <a:r>
              <a:rPr b="0" lang="es-ES_tradnl" sz="3200" spc="-1" strike="noStrike" baseline="-2000">
                <a:solidFill>
                  <a:srgbClr val="ffffff"/>
                </a:solidFill>
                <a:latin typeface="Times New Roman"/>
              </a:rPr>
              <a:t>contracción  y  levantam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30T00:12:08Z</dcterms:created>
  <dc:creator>Universidad de Chile</dc:creator>
  <dc:description/>
  <dc:language>en-US</dc:language>
  <cp:lastModifiedBy>Universidad de Chile</cp:lastModifiedBy>
  <cp:lastPrinted>2001-06-30T01:22:51Z</cp:lastPrinted>
  <dcterms:modified xsi:type="dcterms:W3CDTF">2001-06-30T01:29:03Z</dcterms:modified>
  <cp:revision>2</cp:revision>
  <dc:subject/>
  <dc:title>CICLO    DE    VIDAS    DE   LOS   OCÉANOS</dc:title>
</cp:coreProperties>
</file>